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434F-5038-4EC2-8285-CFDA6FAB5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6219-3122-490A-A70A-B452B7E2C0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A22F-BE75-47CF-BC46-02F378F9A2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24E3-3918-4605-9837-5B1C7AAB25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BC5C-4925-4E9E-8680-7483CB50E7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C230-77B3-4078-859F-B90FC2D06C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4975-BF9D-4DF3-8A91-E04B88E815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B7CC-8EF8-415D-9D97-DC6EE2725D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C349-6475-4AF9-A4D6-1C692ED898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place for Water: some in N Polar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C585-94D7-476C-B690-AF7E4E6605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5701-BB62-428F-BC70-0FBFB77845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17AD-3EB4-44A8-A603-1459B858CE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BA4E-99D1-4049-805C-4840B086D9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0284-C8D4-4E78-BA97-D72CBEE066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CF34-3ECE-40CE-9E17-30C8DB715B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F9C7-5CD7-40EA-8718-F8DABBF896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Sedimentary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1DAF-B1CE-4A13-A910-5F569916D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FC46-FB50-46F9-ABB6-B629112BDE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E290-F0C1-4882-A1D2-0E2FB194F9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C95C-2F5E-4A3B-B744-EC503C101F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FC72-AC0D-4D0A-9C5A-18E37EA02B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2A7B-A94A-48E3-B28E-EE0DE64931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5B82-685C-4A3C-805D-7B0F88B8E2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051D-9264-4705-B764-8D0F832865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Outflow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788A-6630-44DF-990F-3891966F3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Martia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0156-309D-4FD0-AD90-BCEFCCD83A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Sustained Wat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2EA7-9835-4503-BF3F-06203B8BB8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9EC9-9105-4258-8D01-746AD9A5E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logical Eviden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ncient Streambeds and Erosio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E3E3-F395-4A08-91BB-412190D4AC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FC48-C9DF-4212-8DCB-E8105ED31B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F07-03A6-4C52-9CD2-A5D624D4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4C6-93BC-47EA-93A7-CCBABF4D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73C-FA58-47C8-9253-B208F46E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269-0DBE-477C-90D1-97E4EBE8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892-C520-4BF4-9580-67BC5E76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0EB-8E55-4835-B931-125142B2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189-DFA0-466A-90F4-59F0955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D65-CAA6-4D6B-9D1E-962FCFE2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15C-C2BC-44C0-B093-C07F7170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7F1-77A5-4D04-AF4B-BD0DFC6B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781-325A-4793-8E70-15B83BD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C95-4433-4CB2-91A7-A463BFC9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CD00-BAC4-4536-90AA-077948CD4D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E378-057A-4FA3-873E-2F822675C1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974320" y="22860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ater on M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960" y="990720"/>
            <a:ext cx="64425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 for Water on Mars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ullies, erosion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ayers/sedimentary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hysics of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 ice caps – seasonal var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 -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 for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 –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b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artian Meteo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CD98-91A7-4DB6-9D41-AD4A874BD7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day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0B72-6C10-472F-8692-A1DE914D5C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ight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765A-4FF0-4DC5-B8C3-43D97CF0EF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95920" y="240480"/>
            <a:ext cx="37360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rtian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bon Dioxide (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95.32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(N2): 2.7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on (Ar): 1.6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xygen (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0.1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 (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): 0.0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on (Ne): 0.00025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1,000 as much water as our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enough to cover the su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planet with 0.4 inches i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ted out of the atmospher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tian atmosphere does n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late the surface tempera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the planet as Earth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marsatmo"/>
          <p:cNvPicPr/>
          <p:nvPr/>
        </p:nvPicPr>
        <p:blipFill>
          <a:blip r:embed="rId1"/>
          <a:stretch/>
        </p:blipFill>
        <p:spPr>
          <a:xfrm>
            <a:off x="4419720" y="762120"/>
            <a:ext cx="4410000" cy="495288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>
            <a:off x="3886200" y="685800"/>
            <a:ext cx="2362320" cy="9144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283D-8382-4706-B3CB-C5013F88B7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ars_atmos_temp"/>
          <p:cNvPicPr/>
          <p:nvPr/>
        </p:nvPicPr>
        <p:blipFill>
          <a:blip r:embed="rId1"/>
          <a:stretch/>
        </p:blipFill>
        <p:spPr>
          <a:xfrm>
            <a:off x="457200" y="442800"/>
            <a:ext cx="8229600" cy="597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29200" y="571500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46D1-81D8-4200-990C-72935C13E2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77160" y="0"/>
            <a:ext cx="77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istory of Mars’ atmosphere: first like Earth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18280" y="4495680"/>
            <a:ext cx="74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es of terrestrial planets created by out-gassing of volcano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~4 Billion years ago (Mars/Earth = same atmosphe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volcanic gasses: nitrogen, CO2, water vap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54800" y="5638680"/>
            <a:ext cx="679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 in atmospheres condensed to create oceans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cycles through our atmosphere: volcanoes/carbonate r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figure 12-16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6423-1A57-4F2A-BB8F-0C9926309B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2640" y="15228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at happened to the atmosphere on M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9280" y="4038480"/>
            <a:ext cx="8324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may have condensed out and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t so cold, that the water froze in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ermafr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of volcanic activity, however, would stop the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UV light from the Sun will break up chemicals on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ause them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figure 12-16"/>
          <p:cNvPicPr/>
          <p:nvPr/>
        </p:nvPicPr>
        <p:blipFill>
          <a:blip r:embed="rId1"/>
          <a:stretch/>
        </p:blipFill>
        <p:spPr>
          <a:xfrm>
            <a:off x="2057400" y="762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омера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E12A-EF4E-4988-A4C0-DD66A7B31B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torage place for Water: some in N Polar Cap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hubble_mars"/>
          <p:cNvPicPr/>
          <p:nvPr/>
        </p:nvPicPr>
        <p:blipFill>
          <a:blip r:embed="rId1"/>
          <a:stretch/>
        </p:blipFill>
        <p:spPr>
          <a:xfrm>
            <a:off x="1066680" y="914400"/>
            <a:ext cx="2382840" cy="2666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4267080" y="1066680"/>
            <a:ext cx="487692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s are frozen carbon dioxide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‘dry ice’) and some froze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s on froze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reezes at T~150 K (~ -200 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lock of ‘dry ice’ T~ -110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ublimes directly ice to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thern residual cap is ~300 km across, T ~150 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ern cap is ~1,000 km, T~200K  (implies mostly water ice b/c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ce would be sublima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mars_seasons"/>
          <p:cNvPicPr/>
          <p:nvPr/>
        </p:nvPicPr>
        <p:blipFill>
          <a:blip r:embed="rId2"/>
          <a:stretch/>
        </p:blipFill>
        <p:spPr>
          <a:xfrm>
            <a:off x="152280" y="361944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3106-4751-41FB-BE19-933847A2B4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33520" y="1522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ooking for presence of minerals which sugges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99400" y="121932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mounts of water vapor in the atmosphere ind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much of the planet’s water lost to space –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2640" y="2133720"/>
            <a:ext cx="7977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looked for evidenc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rbon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seafloor beds resulting from consumption of atmospheric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ding little or none – this is problematic, controvers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4680" y="3581280"/>
            <a:ext cx="45770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f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mat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 signature of dried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kes on a few places on the 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rom TES instrument on M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hematiteMap2"/>
          <p:cNvPicPr/>
          <p:nvPr/>
        </p:nvPicPr>
        <p:blipFill>
          <a:blip r:embed="rId1"/>
          <a:stretch/>
        </p:blipFill>
        <p:spPr>
          <a:xfrm>
            <a:off x="5181480" y="3352680"/>
            <a:ext cx="329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1C96-64D5-4234-BF5C-1901DBD0F4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219320" y="380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water_caps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A333-CDCC-432C-938B-9AE6C51BBF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91440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water_surface"/>
          <p:cNvPicPr/>
          <p:nvPr/>
        </p:nvPicPr>
        <p:blipFill>
          <a:blip r:embed="rId1"/>
          <a:stretch/>
        </p:blipFill>
        <p:spPr>
          <a:xfrm>
            <a:off x="533520" y="1168560"/>
            <a:ext cx="822960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3CBC-F257-4078-9C61-5E7A1F5B7B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746440" y="228600"/>
            <a:ext cx="32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on M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viking_channels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35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gullies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41080" y="5562720"/>
            <a:ext cx="800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hough many images suggest SIGNS of wa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LIQUID WATER or RAIN has ever been observ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16080" y="480060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2d"/>
                </a:solidFill>
                <a:latin typeface="Times New Roman"/>
              </a:rPr>
              <a:t>Viking 1 Orb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8031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04280" y="990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ne of the most natural human curiosities – related to the ultimate question of LIFE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8495-AD1E-417F-B4FD-961C006EE8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522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eories for Water on Mars: WET, WARM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985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3429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OLD, DESERT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53720" y="914400"/>
            <a:ext cx="6761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arly atmosphere was d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support water in liquid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“rain” out the CO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9360" y="2133720"/>
            <a:ext cx="90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arge beds of carbonate form in standing water like on Earth (Oce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ter would be plentiful on Mars, could generate the observed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95560" y="4038480"/>
            <a:ext cx="85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Never right conditions for water to condense and to create ero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ve to rely on other eroding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i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du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liquid carbon diox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D0EA-7EAC-4C9E-A9DF-132C88F8D8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58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71520" y="129528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probably did have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warmer, wetter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st, but not extr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tudies show water can exist in ice-covered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s long as temperatures get above freezing for a few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lues from glacial regions on Earth have hel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04920" y="38862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se Ancient Lakebeds/Glacial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an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beacon_valley"/>
          <p:cNvPicPr/>
          <p:nvPr/>
        </p:nvPicPr>
        <p:blipFill>
          <a:blip r:embed="rId1"/>
          <a:stretch/>
        </p:blipFill>
        <p:spPr>
          <a:xfrm>
            <a:off x="4419720" y="3276720"/>
            <a:ext cx="44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8999-8D48-4F70-8107-C10774FDF0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logical Evidence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ered Sedimentary Featur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holden_cntx1_i1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292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0" name="Rectangle 5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M03-02733sub1_i1"/>
          <p:cNvPicPr/>
          <p:nvPr/>
        </p:nvPicPr>
        <p:blipFill>
          <a:blip r:embed="rId2"/>
          <a:stretch/>
        </p:blipFill>
        <p:spPr>
          <a:xfrm>
            <a:off x="4419720" y="1828800"/>
            <a:ext cx="4246560" cy="464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2" name="Line 7"/>
          <p:cNvSpPr/>
          <p:nvPr/>
        </p:nvSpPr>
        <p:spPr>
          <a:xfrm>
            <a:off x="1676520" y="40384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295280" y="51814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95280" y="5334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41 km (88 mi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0666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den Cr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mars-candor-chasma-lrg"/>
          <p:cNvPicPr/>
          <p:nvPr/>
        </p:nvPicPr>
        <p:blipFill>
          <a:blip r:embed="rId3"/>
          <a:stretch/>
        </p:blipFill>
        <p:spPr>
          <a:xfrm>
            <a:off x="2057400" y="304920"/>
            <a:ext cx="4889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99E6-1F58-4408-9BEE-3ED9C31D1F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71160" y="3200400"/>
            <a:ext cx="75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lso can invoke an active underground system of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ater lower down may be able to be liq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warmer near Mars’ c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volcanic soils (megaregolith) are incredibly por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8088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an invok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warm, wet cl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volcanic activity generates atmosphere for short peri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starts flowing again (unfreeze 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reate the observed layers of water erosion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freezes into permafrost under Mar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50800" y="5105520"/>
            <a:ext cx="65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The final word… keep watching the skies (NA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onday: review of current/future Mars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New results in every da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D862-132C-4132-B0E1-A97AE9D4E3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4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3F08-907D-4291-B799-D94F19216B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3592440" y="457200"/>
            <a:ext cx="55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027320" y="2475000"/>
            <a:ext cx="44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 of 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RETURN ROCKS from Mars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791D-C966-46BE-A863-7E27D801CD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44" name="Picture 8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5" name="Text Box 9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1143000" y="990720"/>
            <a:ext cx="6781680" cy="4570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760680" y="3826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83808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FC67-AD86-423C-8BFE-8319B87C73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990720" y="205740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56CE-15CC-4962-BA18-2ED3D447C7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B4D0-0546-433B-97BE-EADFB92BD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30B9-5A60-493F-AA37-372A84B558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Outflow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99280" y="5538960"/>
            <a:ext cx="736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flow channels suggest that massive floods happene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water discharge rates ~10,000 times Mississippi River f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did these floods form into a massive oc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noachis_gullies"/>
          <p:cNvPicPr/>
          <p:nvPr/>
        </p:nvPicPr>
        <p:blipFill>
          <a:blip r:embed="rId1"/>
          <a:stretch/>
        </p:blipFill>
        <p:spPr>
          <a:xfrm>
            <a:off x="5181480" y="838080"/>
            <a:ext cx="3100680" cy="464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igure 12-09"/>
          <p:cNvPicPr/>
          <p:nvPr/>
        </p:nvPicPr>
        <p:blipFill>
          <a:blip r:embed="rId2"/>
          <a:stretch/>
        </p:blipFill>
        <p:spPr>
          <a:xfrm>
            <a:off x="1066680" y="990720"/>
            <a:ext cx="3295800" cy="4394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347200" y="4915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s Va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310080" y="49150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GS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F276-4F85-4C9B-A7DC-AAAB108B4A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Martian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3" descr="gullylables_70"/>
          <p:cNvPicPr/>
          <p:nvPr/>
        </p:nvPicPr>
        <p:blipFill>
          <a:blip r:embed="rId1"/>
          <a:stretch/>
        </p:blipFill>
        <p:spPr>
          <a:xfrm>
            <a:off x="30481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8" name="Text Box 4"/>
          <p:cNvSpPr/>
          <p:nvPr/>
        </p:nvSpPr>
        <p:spPr>
          <a:xfrm>
            <a:off x="304920" y="1676520"/>
            <a:ext cx="27432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tian Gullies: left (Mars) and right (Earth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 the Earth picture, rain water flowing under and seeping along the base of a recently-deposited volcanic ash layer has created the gull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For Mars, water is not actually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see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but is inferred from the landforms and their similarity to examples on Ea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133720" y="60958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s Global Surveyor Image (June 2000)           Earth (Mt. St. Hele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40E3-C545-4849-9DF6-9A71060C48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figure 12-10a"/>
          <p:cNvPicPr/>
          <p:nvPr/>
        </p:nvPicPr>
        <p:blipFill>
          <a:blip r:embed="rId1"/>
          <a:stretch/>
        </p:blipFill>
        <p:spPr>
          <a:xfrm>
            <a:off x="380880" y="1371600"/>
            <a:ext cx="4808520" cy="485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igure 12-10b"/>
          <p:cNvPicPr/>
          <p:nvPr/>
        </p:nvPicPr>
        <p:blipFill>
          <a:blip r:embed="rId2"/>
          <a:stretch/>
        </p:blipFill>
        <p:spPr>
          <a:xfrm>
            <a:off x="5410080" y="1066680"/>
            <a:ext cx="29941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Sustained Water Flow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B51F-5716-4D57-B528-1C802D576A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gullies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73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7241760" y="60958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5B37-EB6C-40AE-8160-410D85575E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Ancient Streambeds and Erosion Channe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6714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see caption"/>
          <p:cNvPicPr/>
          <p:nvPr/>
        </p:nvPicPr>
        <p:blipFill>
          <a:blip r:embed="rId1"/>
          <a:stretch/>
        </p:blipFill>
        <p:spPr>
          <a:xfrm>
            <a:off x="533520" y="1143000"/>
            <a:ext cx="8194680" cy="267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9" name="Rectangle 7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sp_pit_i1"/>
          <p:cNvPicPr/>
          <p:nvPr/>
        </p:nvPicPr>
        <p:blipFill>
          <a:blip r:embed="rId2"/>
          <a:stretch/>
        </p:blipFill>
        <p:spPr>
          <a:xfrm>
            <a:off x="990720" y="4038480"/>
            <a:ext cx="3504960" cy="263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1" name="Rectangle 9"/>
          <p:cNvSpPr/>
          <p:nvPr/>
        </p:nvSpPr>
        <p:spPr>
          <a:xfrm>
            <a:off x="939960" y="20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marsnewton_mgs_med"/>
          <p:cNvPicPr/>
          <p:nvPr/>
        </p:nvPicPr>
        <p:blipFill>
          <a:blip r:embed="rId3"/>
          <a:stretch/>
        </p:blipFill>
        <p:spPr>
          <a:xfrm>
            <a:off x="4876920" y="4038480"/>
            <a:ext cx="314316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5DA7-5A13-4EE9-B50E-A23DE4EC36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227880"/>
            <a:ext cx="8229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ummers in the Martian southern hemispher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horter than summers in the northern hemi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580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orthern hemisphere is chilled by a larger polar 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more volcanoes i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The southern hemisphere is at much lower elevation on average the Martian equatorial bulge makes the sun shine more directly o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This is a consequence of Mars’ elliptical or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15F0-A172-499C-87BC-80BDBF9BBF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1040" y="5335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hysics of finding water on 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4360" y="1828800"/>
            <a:ext cx="757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hen/how does water (H</a:t>
            </a:r>
            <a:r>
              <a:rPr b="0" i="1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0) exist in its liquid st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fig-7a-water"/>
          <p:cNvPicPr/>
          <p:nvPr/>
        </p:nvPicPr>
        <p:blipFill>
          <a:blip r:embed="rId1"/>
          <a:stretch/>
        </p:blipFill>
        <p:spPr>
          <a:xfrm>
            <a:off x="6781680" y="3808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09480" y="25146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QUID water exists over a very NARROW range i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hig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lo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lid (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0880" y="38098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EMPERATURE of water will depend on the ATMOSPHERIC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low – water will vaporize (evapo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high – water will stay liqui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7200" y="4876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760" y="510552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ars’ atmospheric pressure is ~1% of Earth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temperatur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FROZEN WATER (ice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11:34Z</dcterms:created>
  <dc:creator>Cornelia C Lang</dc:creator>
  <dc:description/>
  <dc:language>en-US</dc:language>
  <cp:lastModifiedBy>RomaK</cp:lastModifiedBy>
  <dcterms:modified xsi:type="dcterms:W3CDTF">2015-08-01T07:31:24Z</dcterms:modified>
  <cp:revision>17</cp:revision>
  <dc:subject/>
  <dc:title>Slide 1</dc:title>
</cp:coreProperties>
</file>